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622-3A5F-48AF-B05A-52BC3624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791-791D-4DAF-A191-6C5BC38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5C9-B546-4C5D-B987-36969974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8C1-5DD7-4D42-B7A0-20B41E36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878-DCF9-40F7-BD89-DAFD3399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B73-1CD1-4C22-AFC7-7FF1A7C3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BA9-6BD2-467B-A6F4-DC90882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A5E-A1E9-4063-9656-901D14D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D59-F3FC-44D5-80DC-BC3A180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059-CEAF-42B9-8B58-0847CA6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F01-E9C0-4DEA-987D-6498D00B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74F-1480-4118-BE06-53F95A0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67CDE-933C-436F-86D6-9B598FAD9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AFDE3-9F5D-4EC1-A2D0-864146214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xplosion 1 4"/>
          <p:cNvSpPr/>
          <p:nvPr/>
        </p:nvSpPr>
        <p:spPr>
          <a:xfrm>
            <a:off x="77760" y="5927760"/>
            <a:ext cx="115272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xplosion 1 10"/>
          <p:cNvSpPr/>
          <p:nvPr/>
        </p:nvSpPr>
        <p:spPr>
          <a:xfrm>
            <a:off x="995400" y="5556240"/>
            <a:ext cx="115236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xplosion 1 11"/>
          <p:cNvSpPr/>
          <p:nvPr/>
        </p:nvSpPr>
        <p:spPr>
          <a:xfrm>
            <a:off x="5378400" y="5902200"/>
            <a:ext cx="1152720" cy="871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xplosion 1 12"/>
          <p:cNvSpPr/>
          <p:nvPr/>
        </p:nvSpPr>
        <p:spPr>
          <a:xfrm>
            <a:off x="1995480" y="5986440"/>
            <a:ext cx="1152360" cy="871560"/>
          </a:xfrm>
          <a:prstGeom prst="irregularSeal1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xplosion 1 13"/>
          <p:cNvSpPr/>
          <p:nvPr/>
        </p:nvSpPr>
        <p:spPr>
          <a:xfrm>
            <a:off x="3147840" y="5927760"/>
            <a:ext cx="1154160" cy="871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xplosion 1 14"/>
          <p:cNvSpPr/>
          <p:nvPr/>
        </p:nvSpPr>
        <p:spPr>
          <a:xfrm>
            <a:off x="4238640" y="5700600"/>
            <a:ext cx="1152360" cy="871560"/>
          </a:xfrm>
          <a:prstGeom prst="irregularSeal1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xplosion 1 15"/>
          <p:cNvSpPr/>
          <p:nvPr/>
        </p:nvSpPr>
        <p:spPr>
          <a:xfrm>
            <a:off x="6480000" y="5675400"/>
            <a:ext cx="115272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xplosion 1 16"/>
          <p:cNvSpPr/>
          <p:nvPr/>
        </p:nvSpPr>
        <p:spPr>
          <a:xfrm>
            <a:off x="7493040" y="5991120"/>
            <a:ext cx="115236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xplosion 1 17"/>
          <p:cNvSpPr/>
          <p:nvPr/>
        </p:nvSpPr>
        <p:spPr>
          <a:xfrm>
            <a:off x="7912080" y="2890800"/>
            <a:ext cx="115272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xplosion 1 18"/>
          <p:cNvSpPr/>
          <p:nvPr/>
        </p:nvSpPr>
        <p:spPr>
          <a:xfrm>
            <a:off x="469800" y="4146480"/>
            <a:ext cx="115272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xplosion 1 19"/>
          <p:cNvSpPr/>
          <p:nvPr/>
        </p:nvSpPr>
        <p:spPr>
          <a:xfrm>
            <a:off x="4853160" y="4545000"/>
            <a:ext cx="1152360" cy="87156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xplosion 1 20"/>
          <p:cNvSpPr/>
          <p:nvPr/>
        </p:nvSpPr>
        <p:spPr>
          <a:xfrm>
            <a:off x="1469880" y="4629240"/>
            <a:ext cx="115272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xplosion 1 21"/>
          <p:cNvSpPr/>
          <p:nvPr/>
        </p:nvSpPr>
        <p:spPr>
          <a:xfrm>
            <a:off x="2622600" y="4570560"/>
            <a:ext cx="1152360" cy="871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xplosion 1 22"/>
          <p:cNvSpPr/>
          <p:nvPr/>
        </p:nvSpPr>
        <p:spPr>
          <a:xfrm>
            <a:off x="3749760" y="4583160"/>
            <a:ext cx="1154160" cy="871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xplosion 1 23"/>
          <p:cNvSpPr/>
          <p:nvPr/>
        </p:nvSpPr>
        <p:spPr>
          <a:xfrm>
            <a:off x="5954760" y="4316400"/>
            <a:ext cx="1152360" cy="8715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xplosion 1 24"/>
          <p:cNvSpPr/>
          <p:nvPr/>
        </p:nvSpPr>
        <p:spPr>
          <a:xfrm>
            <a:off x="6967440" y="4633920"/>
            <a:ext cx="1152720" cy="871560"/>
          </a:xfrm>
          <a:prstGeom prst="irregularSeal1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xplosion 1 25"/>
          <p:cNvSpPr/>
          <p:nvPr/>
        </p:nvSpPr>
        <p:spPr>
          <a:xfrm>
            <a:off x="843120" y="2890800"/>
            <a:ext cx="1152360" cy="871560"/>
          </a:xfrm>
          <a:prstGeom prst="irregularSeal1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xplosion 1 26"/>
          <p:cNvSpPr/>
          <p:nvPr/>
        </p:nvSpPr>
        <p:spPr>
          <a:xfrm>
            <a:off x="5049720" y="3035160"/>
            <a:ext cx="1152720" cy="871560"/>
          </a:xfrm>
          <a:prstGeom prst="irregularSeal1">
            <a:avLst/>
          </a:prstGeom>
          <a:solidFill>
            <a:srgbClr val="65baba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xplosion 1 27"/>
          <p:cNvSpPr/>
          <p:nvPr/>
        </p:nvSpPr>
        <p:spPr>
          <a:xfrm>
            <a:off x="1995480" y="3035160"/>
            <a:ext cx="1152360" cy="8715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xplosion 1 28"/>
          <p:cNvSpPr/>
          <p:nvPr/>
        </p:nvSpPr>
        <p:spPr>
          <a:xfrm>
            <a:off x="3071880" y="3365640"/>
            <a:ext cx="115416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xplosion 1 29"/>
          <p:cNvSpPr/>
          <p:nvPr/>
        </p:nvSpPr>
        <p:spPr>
          <a:xfrm>
            <a:off x="4086360" y="3236760"/>
            <a:ext cx="115236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xplosion 1 30"/>
          <p:cNvSpPr/>
          <p:nvPr/>
        </p:nvSpPr>
        <p:spPr>
          <a:xfrm>
            <a:off x="6202440" y="3035160"/>
            <a:ext cx="115236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xplosion 1 31"/>
          <p:cNvSpPr/>
          <p:nvPr/>
        </p:nvSpPr>
        <p:spPr>
          <a:xfrm>
            <a:off x="7183440" y="3470400"/>
            <a:ext cx="1152360" cy="871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xplosion 1 32"/>
          <p:cNvSpPr/>
          <p:nvPr/>
        </p:nvSpPr>
        <p:spPr>
          <a:xfrm>
            <a:off x="77760" y="3429000"/>
            <a:ext cx="1152720" cy="871560"/>
          </a:xfrm>
          <a:prstGeom prst="irregularSeal1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xplosion 1 33"/>
          <p:cNvSpPr/>
          <p:nvPr/>
        </p:nvSpPr>
        <p:spPr>
          <a:xfrm>
            <a:off x="7912080" y="5340240"/>
            <a:ext cx="115272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xplosion 1 34"/>
          <p:cNvSpPr/>
          <p:nvPr/>
        </p:nvSpPr>
        <p:spPr>
          <a:xfrm>
            <a:off x="1152360" y="1754280"/>
            <a:ext cx="1152720" cy="871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xplosion 1 35"/>
          <p:cNvSpPr/>
          <p:nvPr/>
        </p:nvSpPr>
        <p:spPr>
          <a:xfrm>
            <a:off x="5472000" y="1822320"/>
            <a:ext cx="1154160" cy="87156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xplosion 1 36"/>
          <p:cNvSpPr/>
          <p:nvPr/>
        </p:nvSpPr>
        <p:spPr>
          <a:xfrm>
            <a:off x="2305080" y="1898640"/>
            <a:ext cx="1152360" cy="871560"/>
          </a:xfrm>
          <a:prstGeom prst="irregularSeal1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xplosion 1 37"/>
          <p:cNvSpPr/>
          <p:nvPr/>
        </p:nvSpPr>
        <p:spPr>
          <a:xfrm>
            <a:off x="3419640" y="2019240"/>
            <a:ext cx="1152360" cy="871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xplosion 1 38"/>
          <p:cNvSpPr/>
          <p:nvPr/>
        </p:nvSpPr>
        <p:spPr>
          <a:xfrm>
            <a:off x="4467240" y="2019240"/>
            <a:ext cx="1152360" cy="871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xplosion 1 39"/>
          <p:cNvSpPr/>
          <p:nvPr/>
        </p:nvSpPr>
        <p:spPr>
          <a:xfrm>
            <a:off x="6524640" y="1873080"/>
            <a:ext cx="1152360" cy="8715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xplosion 1 40"/>
          <p:cNvSpPr/>
          <p:nvPr/>
        </p:nvSpPr>
        <p:spPr>
          <a:xfrm>
            <a:off x="7537320" y="2189160"/>
            <a:ext cx="1152720" cy="871560"/>
          </a:xfrm>
          <a:prstGeom prst="irregularSeal1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xplosion 1 41"/>
          <p:cNvSpPr/>
          <p:nvPr/>
        </p:nvSpPr>
        <p:spPr>
          <a:xfrm>
            <a:off x="1413000" y="590400"/>
            <a:ext cx="1152360" cy="871560"/>
          </a:xfrm>
          <a:prstGeom prst="irregularSeal1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xplosion 1 42"/>
          <p:cNvSpPr/>
          <p:nvPr/>
        </p:nvSpPr>
        <p:spPr>
          <a:xfrm>
            <a:off x="5619600" y="590400"/>
            <a:ext cx="1152720" cy="871560"/>
          </a:xfrm>
          <a:prstGeom prst="irregularSeal1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xplosion 1 43"/>
          <p:cNvSpPr/>
          <p:nvPr/>
        </p:nvSpPr>
        <p:spPr>
          <a:xfrm>
            <a:off x="2489040" y="485640"/>
            <a:ext cx="115272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xplosion 1 44"/>
          <p:cNvSpPr/>
          <p:nvPr/>
        </p:nvSpPr>
        <p:spPr>
          <a:xfrm>
            <a:off x="3457440" y="590400"/>
            <a:ext cx="1152720" cy="87156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xplosion 1 45"/>
          <p:cNvSpPr/>
          <p:nvPr/>
        </p:nvSpPr>
        <p:spPr>
          <a:xfrm>
            <a:off x="4572000" y="793800"/>
            <a:ext cx="115236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xplosion 1 46"/>
          <p:cNvSpPr/>
          <p:nvPr/>
        </p:nvSpPr>
        <p:spPr>
          <a:xfrm>
            <a:off x="6708600" y="514440"/>
            <a:ext cx="115272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xplosion 1 47"/>
          <p:cNvSpPr/>
          <p:nvPr/>
        </p:nvSpPr>
        <p:spPr>
          <a:xfrm>
            <a:off x="7632720" y="950760"/>
            <a:ext cx="115236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xplosion 1 48"/>
          <p:cNvSpPr/>
          <p:nvPr/>
        </p:nvSpPr>
        <p:spPr>
          <a:xfrm>
            <a:off x="714240" y="1128600"/>
            <a:ext cx="115416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35:29Z</dcterms:created>
  <dc:creator>Caroline Roth</dc:creator>
  <dc:description/>
  <dc:language>en-US</dc:language>
  <cp:lastModifiedBy>Caroline Roth</cp:lastModifiedBy>
  <dcterms:modified xsi:type="dcterms:W3CDTF">2011-02-16T03:54:23Z</dcterms:modified>
  <cp:revision>1</cp:revision>
  <dc:subject/>
  <dc:title>Slide 1</dc:title>
</cp:coreProperties>
</file>